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5.jpeg" ContentType="image/jpeg"/>
  <Override PartName="/ppt/media/image10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55D2-6E50-4056-938A-6496E5D111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emperature Regul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By the end of the lesson you should know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ow the body corrects overh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ow the body corrects overcool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at thermocreceptors do?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at volutary responses are carried out to control temperatu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 Re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k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 body corrects overh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 body corrects overcoo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rmocreceptors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volutary responses are carried out to control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Vasoconstriction and Vasodilat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soconstriction and Vasodila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rrection of overh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etected by thermoreceptors in the hypothalamus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auses vasodilatio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w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ion of overh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ed by thermoreceptors in the hypothalam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vasodi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oling dow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en it's hot and you need to cool down, muscles at each hair  relax.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airs lie close to the ski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Air does not act as an insulating layer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ing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's hot and you need to cool down, muscles at each hair  rel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s lie close to the sk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does not act as an insulating lay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w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eat energy in the body is used to convert the water in sweat to vapour cooling down the body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energy in the body is used to convert the water in sweat to vapour cooling down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rrection of overcool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etected by thermoreceptors in the hypothalamus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auses vasoconstrictio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ecreased sw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hiver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ion of overcoo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ed by thermoreceptors in the hypothalam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vasoconstri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d sw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Keeping warm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en it's cold, the muscle contracts pulls the hair up.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A layer of warm air accumulates around the hair and insulates the organism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eat retained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w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's cold, the muscle contracts pulls the hair u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ayer of warm air accumulates around the hair and insulates the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re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hiver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Voluntary response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In humans the cerebrum “makes” people feel cold or hot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y can then e.g. put on more clothes, eat a hot meal, exercise etc as appropriate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ntary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humans the cerebrum “makes” people feel cold or h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then e.g. put on more clothes, eat a hot meal, exercise etc as appropri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o provide the optimum conditions for enzyme-catalysed reactions to be carried out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y do we need to regulate:</a:t>
            </a:r>
            <a:br>
              <a:rPr sz="1200"/>
            </a:b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Internal body temperatu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vide the optimum conditions for enzyme-catalysed reactions to be carri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to regulat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body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Body Temperatu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Normal internal body temperature is 370C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emperatures above this: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enature enzymes and block metabolic pathway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emperatures below this: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low down metabolism and affect the brai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internal body temperature is 370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s above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e enzymes and block metabolic path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s below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down metabolism and affect the br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ater Bath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emperature set on thermosta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oo cool? Heater kicks on and temperature goes up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oo warm? Heater stays off until bath cools dow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nstant checking and turning on and off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B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 set on thermos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cool? Heater kicks on and temperature goes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warm? Heater stays off until bath cool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checking and turning on and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ntrol of homeostasis through feedback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Feedback system- cycle of events in which the status of a body condition is continually monitored, evaluated, changed, re-monitored, re-evaluated, etc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homeostasis through feed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ack system- cycle of events in which the status of a body condition is continually monitored, evaluated, changed, re-monitored, re-evaluated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) receptor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ensor that responds to changes (stimuli)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2) control cent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ets range of values, evaluates input and sends outpu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3) effector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receives output from control centre and produces a respons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3 basic components of a feedback system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e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 that responds to changes (stimu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ontrol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 range of values, evaluates input and sends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eff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s output from control centre and produces a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basic components of a feedback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Body Temperature Contro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 hypothalamus acts as a thermostat and receives nerve impulses from heat and cold thermoreceptors in the ski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re are also receptors in the hypothalamus- called central thermoreceptors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se detect changes in blood temperature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emperature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pothalamus acts as a thermostat and receives nerve impulses from heat and cold thermoreceptors in the sk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also receptors in the hypothalamus- called central thermorecep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detect changes in blood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F7E4-95CC-4A74-8075-03685D6B2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0172-3642-4EF4-B98F-1FB76B3E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4B81-2133-4A25-9657-9246D2A6A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58F9-921A-4A16-8266-7560DAEF0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8022-CA32-4B3A-B833-8E5577FCE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1AC3-B871-43F6-8337-4DF0BB72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DBAA-64F2-462A-B057-4333904F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86ED-5920-4AFC-B8E7-46BCA967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6875-BDB1-4E97-8F41-0289B3E6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97CB-5EDF-44BD-8842-5ECD9C04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3721-630F-493D-AEEB-20BD92FC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983C-69CE-4D09-8F7A-3D4C36BE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D4E9-DA5D-4533-A2F5-BF9E02F4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6B90-38C7-46F1-9AF1-D1F95979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4CD2-9665-4ABA-A29C-A0EBC548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23E8-6942-415A-9958-ECFBFA5BD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5C4D-284E-40BA-B2A4-A64121D0E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6F82-BA28-4C3D-9FAD-A98EE975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BCD2-E110-4A81-AAF1-3E96832D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8ED8-03E0-4932-B4ED-0260B09F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78AD-3737-45C3-9F7C-0E790283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90F7-3376-4A2F-A2B8-540AA278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714A-3E75-421A-9C54-79D2E7C0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C07E-27E9-4F4D-B906-AA6FCD5B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1CB0-66D9-4747-9246-0C79349D6A2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7B3A-E40B-4CF2-9A42-E23A4593054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eakman.com/beakman/haircurl/haircurl.html" TargetMode="External"/><Relationship Id="rId2" Type="http://schemas.openxmlformats.org/officeDocument/2006/relationships/hyperlink" Target="http://www.beakman.com/beakman/haircurl/haircurl.html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eakman.com/beakman/haircurl/haircurl.html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Temperature Regulation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By the end of the lesson you should kno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How the body corrects overheat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How the body corrects overcool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What thermocreceptors do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What volutary responses are carried out to control temperatu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708840" y="834120"/>
            <a:ext cx="8362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Vasoconstriction and Vasodilatation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24" name="Picture 3" descr="Skin_tws_41_02"/>
          <p:cNvPicPr/>
          <p:nvPr/>
        </p:nvPicPr>
        <p:blipFill>
          <a:blip r:embed="rId1"/>
          <a:stretch/>
        </p:blipFill>
        <p:spPr>
          <a:xfrm>
            <a:off x="1763640" y="1693800"/>
            <a:ext cx="612144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5292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  <a:ea typeface="Arial"/>
              </a:rPr>
              <a:t>Correction of overheating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6554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Detected by thermoreceptors in the hypothalamu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Causes vasodila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weat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7" name="Picture 4" descr="Vasodilation"/>
          <p:cNvPicPr/>
          <p:nvPr/>
        </p:nvPicPr>
        <p:blipFill>
          <a:blip r:embed="rId1"/>
          <a:stretch/>
        </p:blipFill>
        <p:spPr>
          <a:xfrm>
            <a:off x="3733920" y="2984400"/>
            <a:ext cx="5410080" cy="3873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sweating 2"/>
          <p:cNvPicPr/>
          <p:nvPr/>
        </p:nvPicPr>
        <p:blipFill>
          <a:blip r:embed="rId2"/>
          <a:stretch/>
        </p:blipFill>
        <p:spPr>
          <a:xfrm>
            <a:off x="228600" y="3581280"/>
            <a:ext cx="308628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Cooling down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When it's hot and you need to cool down, muscles at each </a:t>
            </a:r>
            <a:r>
              <a:rPr b="0" lang="en-GB" sz="2400" spc="-1" strike="noStrike" u="sng">
                <a:solidFill>
                  <a:srgbClr val="0099ff"/>
                </a:solidFill>
                <a:uFillTx/>
                <a:latin typeface="Comic Sans MS"/>
                <a:hlinkClick r:id="rId1"/>
              </a:rPr>
              <a:t>hair</a:t>
            </a: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  relax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Hairs lie close to the ski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Air does not act as an insulating layer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1" name="Picture 4" descr="coo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2349360"/>
            <a:ext cx="431928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40720" y="7200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Sweating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3" name="Picture 3" descr="sweating_it_out"/>
          <p:cNvPicPr/>
          <p:nvPr/>
        </p:nvPicPr>
        <p:blipFill>
          <a:blip r:embed="rId1"/>
          <a:stretch/>
        </p:blipFill>
        <p:spPr>
          <a:xfrm>
            <a:off x="539640" y="981000"/>
            <a:ext cx="4176720" cy="5616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5292720" y="3500280"/>
            <a:ext cx="3600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How does it work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Heat energy in the body is used to convert the water in sweat to vapour cooling down the body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986400" y="7578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  <a:ea typeface="Arial"/>
              </a:rPr>
              <a:t>Correction of overcooling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560" y="1676520"/>
            <a:ext cx="655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Detected by thermoreceptors in the hypothalamu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Causes vasoconstric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Decreased sweat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hiver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7" name="Picture 4" descr="Vasoconstriction"/>
          <p:cNvPicPr/>
          <p:nvPr/>
        </p:nvPicPr>
        <p:blipFill>
          <a:blip r:embed="rId1"/>
          <a:stretch/>
        </p:blipFill>
        <p:spPr>
          <a:xfrm>
            <a:off x="4114800" y="2971800"/>
            <a:ext cx="5029200" cy="3554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shivering"/>
          <p:cNvPicPr/>
          <p:nvPr/>
        </p:nvPicPr>
        <p:blipFill>
          <a:blip r:embed="rId2"/>
          <a:stretch/>
        </p:blipFill>
        <p:spPr>
          <a:xfrm>
            <a:off x="965160" y="4038480"/>
            <a:ext cx="2171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Keeping warm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Comic Sans MS"/>
              </a:rPr>
              <a:t>When it's cold, the muscle contracts pulls the hair up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Comic Sans MS"/>
              </a:rPr>
              <a:t>A layer of warm air accumulates around the hair and insulates the organism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Comic Sans MS"/>
              </a:rPr>
              <a:t>Heat retain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1" name="Picture 4" descr="war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2880" y="1628640"/>
            <a:ext cx="43340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cc"/>
                </a:solidFill>
                <a:uFillTx/>
                <a:latin typeface="Arial"/>
              </a:rPr>
              <a:t>Shivering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3" name="Picture 3" descr="shivering-at-the-gap"/>
          <p:cNvPicPr/>
          <p:nvPr/>
        </p:nvPicPr>
        <p:blipFill>
          <a:blip r:embed="rId1"/>
          <a:stretch/>
        </p:blipFill>
        <p:spPr>
          <a:xfrm>
            <a:off x="395280" y="1268280"/>
            <a:ext cx="5905440" cy="49024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4"/>
          <p:cNvSpPr/>
          <p:nvPr/>
        </p:nvSpPr>
        <p:spPr>
          <a:xfrm>
            <a:off x="6300720" y="2637000"/>
            <a:ext cx="28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How does it work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  <a:ea typeface="Arial"/>
              </a:rPr>
              <a:t>Voluntary responses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091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In humans the cerebrum “makes” people feel cold or hot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They can then e.g. put on more clothes, eat a hot meal, exercise etc as appropriate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'cutaway' skin diagram view showing sweat ducts, epidermis, dermis, hair shafts, rete pegs, sebaceous glands, dermal nerve fiber, muscle, subcutaneous fat, and hair follicles"/>
          <p:cNvPicPr/>
          <p:nvPr/>
        </p:nvPicPr>
        <p:blipFill>
          <a:blip r:embed="rId1"/>
          <a:stretch/>
        </p:blipFill>
        <p:spPr>
          <a:xfrm>
            <a:off x="611280" y="260280"/>
            <a:ext cx="85327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LP102_Pic1"/>
          <p:cNvPicPr/>
          <p:nvPr/>
        </p:nvPicPr>
        <p:blipFill>
          <a:blip r:embed="rId1"/>
          <a:stretch/>
        </p:blipFill>
        <p:spPr>
          <a:xfrm>
            <a:off x="250920" y="476280"/>
            <a:ext cx="864216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743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552600" indent="-55260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To provide the optimum conditions for enzyme-catalysed reactions to be carried out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Why do we need to regulate:</a:t>
            </a:r>
            <a:br>
              <a:rPr sz="4400"/>
            </a:b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Internal body temperature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10440" y="452880"/>
            <a:ext cx="7169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  <a:ea typeface="Arial"/>
              </a:rPr>
              <a:t>Body Temperature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Normal internal body temperature is 37</a:t>
            </a:r>
            <a:r>
              <a:rPr b="0" lang="en-US" sz="3100" spc="-1" strike="noStrike" baseline="30000">
                <a:solidFill>
                  <a:srgbClr val="000066"/>
                </a:solidFill>
                <a:latin typeface="Comic Sans MS"/>
                <a:ea typeface="Times New Roman"/>
              </a:rPr>
              <a:t>0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C.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emperatures </a:t>
            </a:r>
            <a:r>
              <a:rPr b="0" lang="en-US" sz="31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above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this: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denature enzymes and block metabolic pathways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emperatures </a:t>
            </a:r>
            <a:r>
              <a:rPr b="0" lang="en-US" sz="31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below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this: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low down metabolism and affect the brain.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748440" y="62640"/>
            <a:ext cx="764712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Water Bath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12880" y="4805280"/>
            <a:ext cx="756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emperature set on thermost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oo cool? Heater kicks on and temperature goes u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oo warm? Heater stays off until bath cools dow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Constant checking and turning on and of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2" name="Picture 4" descr="S-2058-1"/>
          <p:cNvPicPr/>
          <p:nvPr/>
        </p:nvPicPr>
        <p:blipFill>
          <a:blip r:embed="rId1"/>
          <a:stretch/>
        </p:blipFill>
        <p:spPr>
          <a:xfrm>
            <a:off x="2590920" y="838080"/>
            <a:ext cx="39243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06400" y="1265040"/>
            <a:ext cx="783828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  <a:ea typeface="Times New Roman"/>
              </a:rPr>
              <a:t>Control of homeostasis through feedback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2514240"/>
            <a:ext cx="85341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Feedback system- cycle of events in which the status of a body condition is continually monitored, evaluated, changed, re-monitored, re-evaluated, etc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5" name="Picture 4" descr="j0254474"/>
          <p:cNvPicPr/>
          <p:nvPr/>
        </p:nvPicPr>
        <p:blipFill>
          <a:blip r:embed="rId1"/>
          <a:stretch/>
        </p:blipFill>
        <p:spPr>
          <a:xfrm>
            <a:off x="7238880" y="1295280"/>
            <a:ext cx="141768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1) recept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ensor that responds to changes (stimuli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2) control cent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ets range of values, evaluates input and sends outpu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3) effect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receives output from control centre and produces a respon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3 basic components of a feedback system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062720" y="3006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  <a:ea typeface="Arial"/>
              </a:rPr>
              <a:t>Body Temperature Control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3579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e hypothalamus acts as a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hermostat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and receives nerve impulses from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heat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ld 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ermoreceptors in the ski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ere are also receptors in the hypothalamus- called central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hermoreceptors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0" name="Picture 4" descr="glakgar_pit_hypothalamus"/>
          <p:cNvPicPr/>
          <p:nvPr/>
        </p:nvPicPr>
        <p:blipFill>
          <a:blip r:embed="rId1"/>
          <a:stretch/>
        </p:blipFill>
        <p:spPr>
          <a:xfrm>
            <a:off x="4495680" y="1447920"/>
            <a:ext cx="4648320" cy="40910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4343400" y="586728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These detect changes in blood temperatur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3809880" y="6172200"/>
            <a:ext cx="5335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4T10:48:30Z</dcterms:modified>
  <cp:revision>5</cp:revision>
  <dc:subject/>
  <dc:title>temperature regul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